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EBFB-A594-405E-99F8-E29AA22AB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5C9F-FC1E-4C68-AE74-579CAF663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C401-C4C6-43C0-8F31-C0D8B974F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CB92-570D-4FDE-8F06-672BB50B8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84D0-88CD-4696-B83D-D3A3DDADA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D9A7-AD64-4564-B157-3633AA26A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B479-3B55-4DB0-AF92-08DFEA34F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91F1-3B42-401C-BC5F-6B1BA09AD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80F0-ACA4-4012-BFE5-7126C95B4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11EF-C753-4F54-9D08-334F9DC36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DB10-5730-4849-B891-916659D1E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6B65-7F90-4287-8399-0FC5A1949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C985-475B-4205-8202-E1E3301F8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CD33-B6E8-487C-8F8C-80347094E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F787-6321-4D2A-8526-A0EFFDA7D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D104-BE7D-42F1-B537-0AD6E8309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B96B-4A2D-4F09-B285-BBFF4F1EA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A45B-811C-494A-BC00-98E6CEFC3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A9DD-22D2-4FFE-8E0F-5B5442B9D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0FBB-A405-41D6-93B0-DC4AD1D8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E0F-68C3-482A-A7B8-69EC3F6E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544E-12A7-4255-A142-02FF852B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CD5-B2C6-474A-8A9B-A9F6A917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CE58-D63E-4B77-8065-6B3340A1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757B-0B53-41B1-B6B4-1F903A56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272E-9AE7-48D7-A4F6-FD8537A8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82A-9E98-42E2-A64B-2F148196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4E4C-01F2-47A0-B458-63111B10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2C4A-0F66-4066-B51C-9A51CFF8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C557-0148-4B15-94CD-5074C270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DB05-CED5-49E0-B63C-753A32AD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E4A9-06DE-48F7-9764-0A466CA73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. Overview of Middl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s of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ical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Antiqui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Greece and R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me fell in 476 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ddle Ag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“Dark Ages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Churc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ok place of Empire in or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r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naissance to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Romanesque Church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867280" y="4632480"/>
            <a:ext cx="2971800" cy="207324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From Medieval to Modern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4th Century Chaos and the Rise of Central Gov’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ndred Years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bonic Pla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of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072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n Theme: Catastrophe and the positives it can bring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6192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100 Years W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337-145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and vs. France, France wins (yeah Joan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Decline of Feud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, Standing ar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th of Nationalism &amp; Strong Monarch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 emerged as major Continental Power (just ask Machiavelli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516720" y="2565360"/>
            <a:ext cx="21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Welcome to St. Joan of Arc Books"/>
          <p:cNvPicPr/>
          <p:nvPr/>
        </p:nvPicPr>
        <p:blipFill>
          <a:blip r:embed="rId1"/>
          <a:stretch/>
        </p:blipFill>
        <p:spPr>
          <a:xfrm>
            <a:off x="5810400" y="3809880"/>
            <a:ext cx="2054160" cy="2743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6210360" y="1143000"/>
            <a:ext cx="112248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6997680" y="2438280"/>
            <a:ext cx="10368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ample B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ack Dea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un dun dun! (sound of ominous musi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32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/5 of Europe’s pop. dead in 50 y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rted Italy, moved North (via trade rou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t cities esp. h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ly weakened No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Artisans in city dying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pportunity to be replaced by peasants/country fo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Nobles made money from sell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food... So many people died, food pric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on Art of the 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yersinia_pestis"/>
          <p:cNvPicPr/>
          <p:nvPr/>
        </p:nvPicPr>
        <p:blipFill>
          <a:blip r:embed="rId1"/>
          <a:srcRect l="6803" t="15997" r="5201" b="18001"/>
          <a:stretch/>
        </p:blipFill>
        <p:spPr>
          <a:xfrm>
            <a:off x="7086600" y="1447920"/>
            <a:ext cx="1600200" cy="960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flea"/>
          <p:cNvPicPr/>
          <p:nvPr/>
        </p:nvPicPr>
        <p:blipFill>
          <a:blip r:embed="rId2"/>
          <a:stretch/>
        </p:blipFill>
        <p:spPr>
          <a:xfrm>
            <a:off x="5943600" y="2895480"/>
            <a:ext cx="2438280" cy="1320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Black rat"/>
          <p:cNvPicPr/>
          <p:nvPr/>
        </p:nvPicPr>
        <p:blipFill>
          <a:blip r:embed="rId3"/>
          <a:stretch/>
        </p:blipFill>
        <p:spPr>
          <a:xfrm>
            <a:off x="6477120" y="4952880"/>
            <a:ext cx="236196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gue Era Ar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city96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85800" y="2093760"/>
            <a:ext cx="769608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gue Era Ar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deathpic"/>
          <p:cNvPicPr/>
          <p:nvPr/>
        </p:nvPicPr>
        <p:blipFill>
          <a:blip r:embed="rId1"/>
          <a:stretch/>
        </p:blipFill>
        <p:spPr>
          <a:xfrm>
            <a:off x="1371600" y="1795320"/>
            <a:ext cx="609588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gue Era Ar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3" descr="DanceODeath"/>
          <p:cNvPicPr/>
          <p:nvPr/>
        </p:nvPicPr>
        <p:blipFill>
          <a:blip r:embed="rId1"/>
          <a:stretch/>
        </p:blipFill>
        <p:spPr>
          <a:xfrm>
            <a:off x="3809880" y="1600200"/>
            <a:ext cx="396252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did this do to Europ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920" y="1212480"/>
            <a:ext cx="684216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many issues for people 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al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ge famine in early 130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gue in mid-late 130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out 1/3 population d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ant Warfare (Hundred Yr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inuous depression and doub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cial Upheaval (Nobles lose out big to rising power of Kin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to top it all of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012000" y="1773360"/>
            <a:ext cx="31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Figure 1. Schematic representation of Caco-2 permeablility assay."/>
          <p:cNvPicPr/>
          <p:nvPr/>
        </p:nvPicPr>
        <p:blipFill>
          <a:blip r:embed="rId1"/>
          <a:stretch/>
        </p:blipFill>
        <p:spPr>
          <a:xfrm>
            <a:off x="5638680" y="930240"/>
            <a:ext cx="2987640" cy="25700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6400800" y="3645000"/>
            <a:ext cx="24112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“Dance of Dea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7640" y="0"/>
            <a:ext cx="8350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are just as many questions regarding the Church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itics as Usual… Boniface VII vs. Philip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09-1377: Avignon Papacy… controlled by French King?!?  Rome in dis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d Church extravagance too (read: “Party!”)… as well as church fund raising!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enefices, indulgences, simony, tithes, dispensation from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no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aw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urch too political??? Questions a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iliar Mov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liam of Ockham and Brothers of Common Life &amp; Augustinian monks (all want POPULAR PIETY… Internal Feeling, NOT External Sh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Sch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at Schism (1378-141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or 3 Popes at any one time!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o do you look 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gory XI back to Rome… then d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mans push for Urban VI (Itali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nch say unfair election… elect another Pope in Avign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?? Universal Excommunication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eval Plague Sufferers… “This is the last thing I need in my life right now…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Problem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nciliaris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uncil of Pisa (Both Rome/Avignon gone… new Pope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uncil of Constance (All three gone… new Pope again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to Rebuild Rome… Renaissance Patronag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http://www.lib.utexas.edu/maps/historical/shepherd/great_schism_1378_1417.jpg"/>
          <p:cNvPicPr/>
          <p:nvPr/>
        </p:nvPicPr>
        <p:blipFill>
          <a:blip r:embed="rId1"/>
          <a:stretch/>
        </p:blipFill>
        <p:spPr>
          <a:xfrm>
            <a:off x="5896080" y="304920"/>
            <a:ext cx="31716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Big Pi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5562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100 Years War (Nobility, Feudalism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r Centralized gov’t 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Plague (Nobility, Feudalism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er nobles= stronger central gov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ral exodus= decreased feudal structure (esp. W. Euro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hurch Scandals- Avignon, Schism, &amp; Ecclesiastical Corruption (Religion as Primary Motivator for Al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questioning what used to be unquestionable; Begins more secular concerns (NOT end of religion thoug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http://www.jesuswalk.com/images/durer_horsemen_lg.jpg"/>
          <p:cNvPicPr/>
          <p:nvPr/>
        </p:nvPicPr>
        <p:blipFill>
          <a:blip r:embed="rId1"/>
          <a:stretch/>
        </p:blipFill>
        <p:spPr>
          <a:xfrm>
            <a:off x="5351400" y="380880"/>
            <a:ext cx="3792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Feud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olitical/social arrangement… esp. in Northern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Fief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and or gift) for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r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as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rf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… “owned” by the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in allegiance to Lo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centralized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ow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not in hands of 1… see picture to righ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1371600" y="3124080"/>
            <a:ext cx="762120" cy="914400"/>
          </a:xfrm>
          <a:prstGeom prst="downArrow">
            <a:avLst>
              <a:gd name="adj1" fmla="val 50000"/>
              <a:gd name="adj2" fmla="val 2999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chart-feudal hierarchy"/>
          <p:cNvPicPr/>
          <p:nvPr/>
        </p:nvPicPr>
        <p:blipFill>
          <a:blip r:embed="rId1"/>
          <a:stretch/>
        </p:blipFill>
        <p:spPr>
          <a:xfrm>
            <a:off x="4805280" y="2362320"/>
            <a:ext cx="4567320" cy="21254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457200" y="76320"/>
            <a:ext cx="83059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(I. Overview of Middle 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ouse that the Lords Bui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t Gothic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t Gothic ExtraBold"/>
              </a:rPr>
              <a:t>Carcassonne:  A Medieval Cas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Carcassonne"/>
          <p:cNvPicPr/>
          <p:nvPr/>
        </p:nvPicPr>
        <p:blipFill>
          <a:blip r:embed="rId1">
            <a:lum contrast="6000"/>
          </a:blip>
          <a:srcRect l="1051" t="0" r="0" b="0"/>
          <a:stretch/>
        </p:blipFill>
        <p:spPr>
          <a:xfrm>
            <a:off x="3276720" y="2333520"/>
            <a:ext cx="5562360" cy="408636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59" name="Text Box 5"/>
          <p:cNvSpPr/>
          <p:nvPr/>
        </p:nvSpPr>
        <p:spPr>
          <a:xfrm>
            <a:off x="380880" y="2743200"/>
            <a:ext cx="2514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ould the presence of castles make a King weaker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ask Machiavell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57200" y="76320"/>
            <a:ext cx="83059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(I. Overview of Middle 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Manori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onomics of Middle 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rarian (3 fields, rotated… 1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allo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0% worked 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ly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lf-suffici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little trade, thus little  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bility rules the r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3657600" y="1996920"/>
            <a:ext cx="5562720" cy="3892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457200" y="76320"/>
            <a:ext cx="83059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(I. Overview of Middle 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17560"/>
            <a:ext cx="830592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dieval ‘Cribs’ (??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ndcrafted thatch roof, scrub brush floors and open windows… plenty of room for the kids, the goats, and the cow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room/no bath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4724640" cy="34988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457200" y="76320"/>
            <a:ext cx="83059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. Overview of Middle 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festyle- Food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Recip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 Combine grain, onions, turnips, carrots, and salted meats (if available… most likely won’t be though) to a watery broth and…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OILA!  You’ve got Soup de Mano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southern Europe, soup should be served with wine.  In north, with beer (plain water too dangerous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erage daily caloric intake: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16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lories (modern is 2000!!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57200" y="76320"/>
            <a:ext cx="83059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. Overview of Middle 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Roman Catholic Church, late Middl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257440" y="2133720"/>
            <a:ext cx="3429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othic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ing buttresses &amp; Pointed arches… all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windows…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TAINED G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ell a st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Glory of Go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bourges01"/>
          <p:cNvPicPr/>
          <p:nvPr/>
        </p:nvPicPr>
        <p:blipFill>
          <a:blip r:embed="rId1"/>
          <a:stretch/>
        </p:blipFill>
        <p:spPr>
          <a:xfrm>
            <a:off x="-228600" y="2135160"/>
            <a:ext cx="57150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ior of Gothic Chu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7820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urch Pe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o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College of Cardinal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rchbishops, Bishops, Pries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Monks (monastery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Illuminated Manuscripts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Nuns (convent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>
            <a:lum contrast="6000"/>
          </a:blip>
          <a:srcRect l="16312" t="0" r="17149" b="0"/>
          <a:stretch/>
        </p:blipFill>
        <p:spPr>
          <a:xfrm>
            <a:off x="3983040" y="1143000"/>
            <a:ext cx="4395960" cy="4952880"/>
          </a:xfrm>
          <a:prstGeom prst="rect">
            <a:avLst/>
          </a:prstGeom>
          <a:ln w="0">
            <a:noFill/>
          </a:ln>
        </p:spPr>
      </p:pic>
      <p:sp>
        <p:nvSpPr>
          <p:cNvPr id="80" name="Line 5"/>
          <p:cNvSpPr/>
          <p:nvPr/>
        </p:nvSpPr>
        <p:spPr>
          <a:xfrm flipV="1">
            <a:off x="3048120" y="4723920"/>
            <a:ext cx="838080" cy="2286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6:20:37Z</dcterms:created>
  <dc:creator>mchapman</dc:creator>
  <dc:description/>
  <dc:language>en-US</dc:language>
  <cp:lastModifiedBy>Sue Gregory</cp:lastModifiedBy>
  <dcterms:modified xsi:type="dcterms:W3CDTF">2008-09-11T05:00:32Z</dcterms:modified>
  <cp:revision>2</cp:revision>
  <dc:subject/>
  <dc:title>I. Overview of Middle Ages</dc:title>
</cp:coreProperties>
</file>